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621-A4E0-49A4-A46E-F96947B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1BF-8730-4470-999F-E52BE732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719-FDC2-481A-A868-47838BBA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868-BA99-4092-8400-47E5C4B2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1ADD-AF59-4597-B6DD-9FBC24EB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AF08-0A98-4EAF-A207-401B150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54F-A628-4A53-90BB-CDC1AD78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0E93-6C8B-44AA-815F-6F4B4E69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D50-D949-4C77-BDC3-068AE94B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2FCF-47A0-4190-89AD-56C1610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04DA-3B78-417B-A4E9-30B8A6F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79A-6518-40C5-9F63-787D9708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2271-09E4-4881-A972-4AB65F3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3E9-3040-43DD-A199-E1941F2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A3F7-6899-450F-9410-376D7B9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5B6-9849-4E09-A5E4-0724840D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700A-DABC-460E-8848-9465799F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EA1-FDC3-4703-BD37-559BFEC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5CD-EEC5-44EC-84A2-FE55569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365-659B-470E-8F4A-4387C48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C49-7B45-45FE-89E7-B4B4C1C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3CE-2356-4417-A512-72063598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B9C-800A-45E5-BC85-89CF50E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327-BF00-4D1E-8175-FA1DF67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FB07-32BD-4175-8B8E-29296ECA6C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A45-DDB3-4C59-9A76-6B15965933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 7: 7h3 31337 h4x0r5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nathan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ike Head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Kyle Willst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18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s: X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77197" r="0" b="0"/>
          <a:stretch/>
        </p:blipFill>
        <p:spPr>
          <a:xfrm>
            <a:off x="838080" y="2057400"/>
            <a:ext cx="777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1    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ipple Carr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10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1936080" y="349560"/>
            <a:ext cx="527184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2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ry Selec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7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3       Failed (10 hrs later) Kogge-Stone        Thr. Delay: 2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410360" cy="422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19680" y="2590920"/>
            <a:ext cx="4324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ric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We Win! Most Point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transistors sized for equivalent R to characteristic inver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=16952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ay=tc-q+thold+tALU=~11.5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=122.3m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Metric=274,184,6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y too much time spent on ad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st case adder ALU delay ~5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power, more area, much less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34:56Z</dcterms:created>
  <dc:creator>ITC Labs and Classrooms</dc:creator>
  <dc:description/>
  <dc:language>en-US</dc:language>
  <cp:lastModifiedBy>ITC Labs and Classrooms</cp:lastModifiedBy>
  <dcterms:modified xsi:type="dcterms:W3CDTF">2008-04-29T14:45:53Z</dcterms:modified>
  <cp:revision>4</cp:revision>
  <dc:subject/>
  <dc:title>Team 7: 7h3 31337 h4x0r5 </dc:title>
</cp:coreProperties>
</file>